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7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12.gif" ContentType="image/gi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A179-E5CC-4ADC-8358-A058F71A4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B357-397A-442A-86F4-16C2E0A0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2784-29FD-4A42-B56C-773357FFF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97EC-B976-448D-9BF9-FD45E142B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BC83-1CF3-4358-AEE3-55D290344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D4CF-9FD9-454D-8FC3-A3DFD2ED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4441-C6E7-4F96-8376-D25B938F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AFB2-FA5F-4D36-900D-18D03BAB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7928-AB4B-461C-987D-156050FE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1462-2957-44D3-8749-8A5EB1BE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644E-685D-49EA-B7B4-6289DB39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F9C5-8FBC-418F-B3D6-40DA967C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C123-D211-4ECC-B4CC-BF4C8FC8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9FFD-10F7-4C8A-96E0-3A52E698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2B01-A19D-472A-9EE2-EA750604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F48D-0E47-4921-B26B-670F45B9B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A9E8-217E-43B7-AEAF-D62FDB008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1ACE-315C-4711-9847-7C026920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5AE4-A994-4F66-9E94-A1740B3B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E697-57BB-4E2C-A53B-498F5A28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C67E-E253-44C1-A7E1-2B84D67F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36CC-6E0A-40E4-8CEE-66206C45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5F33-BA7C-4566-A4C9-DA96ADB1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CE59-C1ED-4484-B561-1897F0BF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FBA1-3876-4428-9C78-2A5D0964BE8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3DD7-0649-4CA4-8BCB-4D0507796F9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Теория панспермии-</a:t>
            </a:r>
            <a:br>
              <a:rPr sz="4400"/>
            </a:b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жизнь на нашу планету занесена извне, из Вселенной.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2771640" y="2060640"/>
            <a:ext cx="5977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ипотеза была выдвинута Ю.Либихом и Г.Рихтером в середине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IX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е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иболее полно изложил Сванте Аррениус в 1895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гласно гипотезе панспермии жизнь существует вечно и переносится с планеты на планету метеорит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стейшие организмы или их споры («семена жизни»), попадая на новую планету и найдя здесь благоприятные условия, размножаются, давая начало эволюции от простейших форм к сложн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зможно, что жизнь на Земле возникла из одной-единственной колонии микроорганизмов, заброшенных из космо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2700360" cy="2025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                                           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708360" y="260280"/>
            <a:ext cx="5256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ahoma"/>
              </a:rPr>
              <a:t>Для обоснования этой теории  используются многократные появления  НЛО, наскальные изображения предметов, похожих на ракеты и «космонавтов», а  также сообщения якобы о встречах с инопланетянами. При изучении </a:t>
            </a:r>
            <a:br>
              <a:rPr sz="1600"/>
            </a:br>
            <a:r>
              <a:rPr b="1" lang="ru-RU" sz="1600" spc="-1" strike="noStrike">
                <a:solidFill>
                  <a:srgbClr val="eaeaea"/>
                </a:solidFill>
                <a:latin typeface="Tahoma"/>
              </a:rPr>
              <a:t>материалов метеоритов и комет в них   были обнаружены многие  «предшественники живого» - такие вещества, как цианогены, синильная </a:t>
            </a:r>
            <a:br>
              <a:rPr sz="1600"/>
            </a:br>
            <a:r>
              <a:rPr b="1" lang="ru-RU" sz="1600" spc="-1" strike="noStrike">
                <a:solidFill>
                  <a:srgbClr val="eaeaea"/>
                </a:solidFill>
                <a:latin typeface="Tahoma"/>
              </a:rPr>
              <a:t> кислота и органические соединения,  которые,    возможно, сыграли роль «семян», падавших на голую Земл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00000" y="4149720"/>
            <a:ext cx="8244000" cy="1871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419480" cy="1647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763640" y="189000"/>
            <a:ext cx="1600200" cy="1504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179280" y="4514760"/>
            <a:ext cx="3505320" cy="2343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179280" y="1989000"/>
            <a:ext cx="3529080" cy="2347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4067280" y="342900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4067280" y="515772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6326280" y="3357720"/>
            <a:ext cx="242892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На найденном в Антарктиде метеорите обнаружены объекты, которые можно идентифицировать как следы жизнедеятельности микроорганизмов из космоса.</a:t>
            </a:r>
            <a:br>
              <a:rPr sz="1800"/>
            </a:b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5614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6751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Сторонниками этой гипотезы были лауреаты Нобелевской премии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Ф.Крик, Л.Оргел.</a:t>
            </a: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Ф.Крик основывался на двух косвенных доказательствах: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08000" y="198900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ниверсальности генетического код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обходимости для нормального метаболизма всех живых существ молибдена, который встречается сейчас на планете крайне редк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92360" y="4888080"/>
            <a:ext cx="7272360" cy="1817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77920" y="2205000"/>
            <a:ext cx="1125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560" y="2133360"/>
            <a:ext cx="75438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Но если жизнь возникла не на Земле, то как она возникла вне её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059280" y="4506840"/>
            <a:ext cx="2304720" cy="2305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516720" y="0"/>
            <a:ext cx="2425680" cy="242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12:25:37Z</dcterms:created>
  <dc:creator>user</dc:creator>
  <dc:description/>
  <dc:language>en-US</dc:language>
  <cp:lastModifiedBy>user</cp:lastModifiedBy>
  <dcterms:modified xsi:type="dcterms:W3CDTF">2006-11-07T14:44:00Z</dcterms:modified>
  <cp:revision>10</cp:revision>
  <dc:subject/>
  <dc:title>Теория панспермии  внеземное происхожд </dc:title>
</cp:coreProperties>
</file>